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whistle.wav" ContentType="audio/x-wav"/>
  <Override PartName="/ppt/media/train.wav" ContentType="audio/x-wav"/>
  <Override PartName="/ppt/media/CAMERA.WAV" ContentType="audio/x-wav"/>
  <Override PartName="/ppt/media/image4.wmf" ContentType="image/x-wmf"/>
  <Override PartName="/ppt/media/image5.png" ContentType="image/png"/>
  <Override PartName="/ppt/media/image3.wmf" ContentType="image/x-wmf"/>
  <Override PartName="/ppt/media/wee.wav" ContentType="audio/x-wav"/>
  <Override PartName="/ppt/media/moo.wav" ContentType="audio/x-wav"/>
  <Override PartName="/ppt/media/TYPE.WAV" ContentType="audio/x-wav"/>
  <Override PartName="/ppt/media/tigger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07F-729A-426E-8B45-4E068C9D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B2E-54F2-42D1-8997-F85E5D29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670-0CF6-4606-B149-8037F045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51C-759F-45DE-B3BC-4840CBE8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2B1-9301-49AA-A32E-FA1010BA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8C8-96CF-4EE9-915B-3A528F1C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A01-17CF-482E-959C-B15D152F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EAD-DE90-4724-9DD0-3F6C178B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BA5-C8A8-4907-A710-4D40D1E0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E72-8EE6-409D-A681-3FC83DA5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EB4-7053-4E01-866B-809E929F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66E-6B1E-4D24-ACED-5C01C4F8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FC79-F2BB-4EA5-A5D8-597697DB8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rain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audio" Target="../media/train.wav"/><Relationship Id="rId4" Type="http://schemas.openxmlformats.org/officeDocument/2006/relationships/audio" Target="../media/we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moo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igger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istle.wav"/><Relationship Id="rId2" Type="http://schemas.openxmlformats.org/officeDocument/2006/relationships/audio" Target="../media/whistle.wav"/><Relationship Id="rId3" Type="http://schemas.openxmlformats.org/officeDocument/2006/relationships/audio" Target="../media/whistl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istle.wav"/><Relationship Id="rId2" Type="http://schemas.openxmlformats.org/officeDocument/2006/relationships/audio" Target="../media/whistle.wav"/><Relationship Id="rId3" Type="http://schemas.openxmlformats.org/officeDocument/2006/relationships/audio" Target="../media/whistl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Created by 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Poh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380880"/>
            <a:ext cx="6858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Jester"/>
              </a:rPr>
              <a:t>Parts of a Sentence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A sentence has two parts.  It has a </a:t>
            </a: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subject</a:t>
            </a: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 and a </a:t>
            </a: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predicate</a:t>
            </a:r>
            <a:r>
              <a:rPr b="0" lang="en-US" sz="3200" spc="-1" strike="noStrike">
                <a:solidFill>
                  <a:srgbClr val="ff00ff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2455920" cy="381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143000" y="380880"/>
            <a:ext cx="6858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Jester"/>
              </a:rPr>
              <a:t>Parts of a Sentence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66880" y="12193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e </a:t>
            </a: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names who the sentence is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086600" y="2590920"/>
            <a:ext cx="144612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365760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e </a:t>
            </a:r>
            <a:r>
              <a:rPr b="1" lang="en-US" sz="3200" spc="-1" strike="noStrike">
                <a:solidFill>
                  <a:srgbClr val="ff00ff"/>
                </a:solidFill>
                <a:latin typeface="Jester"/>
              </a:rPr>
              <a:t>predicate </a:t>
            </a: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ells what they d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g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Jest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 pi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young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148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check the whe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re noi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likes the air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clear and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a busy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atches the air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miles at S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371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Su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Predic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228600"/>
            <a:ext cx="72392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Put the sentence parts together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istl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Jes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air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young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ork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The pi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148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a busy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are noi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likes the air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is clear and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check the whe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watches the air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Jester"/>
              </a:rPr>
              <a:t>smiles at S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371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Su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Jester"/>
              </a:rPr>
              <a:t>Predic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228600"/>
            <a:ext cx="72392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Put the sentence parts together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895480"/>
            <a:ext cx="2514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200400" y="289548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0384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4038120"/>
            <a:ext cx="2133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362320" y="5790960"/>
            <a:ext cx="19047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2286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istl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0T02:13:23Z</dcterms:created>
  <dc:creator>Thomas Pohlman</dc:creator>
  <dc:description/>
  <dc:language>en-US</dc:language>
  <cp:lastModifiedBy>dyera</cp:lastModifiedBy>
  <dcterms:modified xsi:type="dcterms:W3CDTF">2007-09-18T14:50:35Z</dcterms:modified>
  <cp:revision>13</cp:revision>
  <dc:subject/>
  <dc:title>No Slide Title</dc:title>
</cp:coreProperties>
</file>